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4.jpeg" ContentType="image/jpeg"/>
  <Override PartName="/ppt/media/image31.jpeg" ContentType="image/jpeg"/>
  <Override PartName="/ppt/media/image25.png" ContentType="image/png"/>
  <Override PartName="/ppt/media/image28.jpeg" ContentType="image/jpeg"/>
  <Override PartName="/ppt/media/image7.jpeg" ContentType="image/jpeg"/>
  <Override PartName="/ppt/media/image6.png" ContentType="image/png"/>
  <Override PartName="/ppt/media/image11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12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909-E70E-4C10-8ED1-24439647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794-BF3A-41A9-8587-1709633C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CE4-EF53-4CB1-BEDB-7BB4B387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073-E540-453F-B4C2-0A6D7988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FCC5-66B6-4F3F-9882-8577FA38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5BDC-E063-4873-9686-21776974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593A-4978-4D11-9879-F187E025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8377-573A-4ECB-BA57-AAE41B93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D551-413F-4DD3-B80F-6EAD29A5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1C39-69C7-4D84-8B7A-953D7443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8B62-2BB1-482C-823E-9EE38D47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C46-8388-46CE-87F0-35CF0291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7D92-E470-4F89-BB5B-4973E4B5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69BF-7B68-413D-B8DA-F994A3BE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75D1-425C-4E22-8317-D70C909E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A684-69A0-466A-8B85-A413C9E4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5764-732A-44C9-9ACA-02EDF3BE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78DB0-966D-4DFB-BCDC-F9C489DB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35225-1805-4589-98BE-25DF4E37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04C64-EF98-4670-AC7F-4234111E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E03E4-22E9-4257-9095-CD85C608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1BA4A-E3B1-4936-BA25-46CE377C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6D5-A9E1-4382-836B-4843FDA6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43E57-2FCC-471F-AC1F-97846EC7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2BE06-6213-48F6-8410-9906B2A7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64AE2-8AE6-4A68-A307-603CC7D5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A0A3-FF23-40C8-8641-F3E7FF4D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B837-777F-4286-BF62-0B78D96F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875D6-900C-42FB-8212-38648C76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9850C-B92F-461C-A7F6-3D6EE9E7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10477-740D-4035-ADE4-0DCE4521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EF285-D255-4DDD-A4C0-DC8914BF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CD2B9-6FF5-4F59-A7BB-F96F45D1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4FA-2AFD-4404-B9F0-9CAB55DE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28E14-2E94-4D06-9FAD-9189843C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DA7FA-F39D-4F85-B094-8CC539B9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0A900-C37E-470D-9BC5-2A73E7FF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255E9-7C25-4E64-B843-FF91430E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2A94D-4EE1-439F-BBCF-2F73A1D8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B32A3-819E-46AA-ACC8-25B8938A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162A6-705B-42EE-A695-98EB6DC4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9149-ADD7-4E61-87E3-A5E832ED8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9278F-6C65-4AAB-82D2-B73F187E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1E4F1-4AB9-4998-A229-34C14D87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40E-5449-45D0-A126-22A27EFD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A0819-7060-4CB0-A848-8BC88D9B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A8FE3-2209-40E2-93B2-8E7685CD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0CC48-AAFA-4750-9721-59E638DD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28867-C954-41E8-AF73-750EA901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E109A-87E8-4518-9685-13F83814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A989F-6AF8-4251-ACFA-BD1B3C1C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693CD-D399-4A0C-9FF5-3A715572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21016-8BFB-4566-9B8B-9D1F0C3A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B41F4-D053-4FA9-B0DE-B1E7740F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B3665-0761-4C81-BD81-3224A068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60D-5BDD-4CA9-ADBE-C8782644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93AAD-7973-4F64-8F9A-A7CC03F7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771-21A3-4894-8D28-D4580B94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8C0E-AA59-4842-8DFF-0E1C72F7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B33-1D06-498D-98CB-FE487540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F85DB-E42B-4F7F-A3E4-FB9A1D575A22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545A3-E50E-4867-BA6E-978B0567AD2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46942-0E3E-4B0A-A45D-DB593755DB30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C1500-6DBE-479B-A2D9-B6357A95066E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463C3-9441-4A09-8080-D3657B54DC6E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B6405-71E0-4AA9-91DE-5A55CD4F10F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8AFEC-6B6A-44F3-996C-7C3F982255E7}" type="datetime">
              <a:rPr b="0" lang="en-US" sz="1000" spc="-1" strike="noStrike">
                <a:solidFill>
                  <a:srgbClr val="f4e7ed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9082D-083F-4A32-9516-DDF0DA6872C2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8409AB-198E-4878-9A9F-BB83AB6882A5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8A803-F852-4B66-AF75-8288BA4D67E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3" descr=""/>
          <p:cNvPicPr/>
          <p:nvPr/>
        </p:nvPicPr>
        <p:blipFill>
          <a:blip r:embed="rId1"/>
          <a:stretch/>
        </p:blipFill>
        <p:spPr>
          <a:xfrm>
            <a:off x="414360" y="566640"/>
            <a:ext cx="82789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pic>
        <p:nvPicPr>
          <p:cNvPr id="242" name="autonomic-nervous-system.gif" descr="/Users/Caroline/Desktop/autonomic-nervous-system.gif"/>
          <p:cNvPicPr/>
          <p:nvPr/>
        </p:nvPicPr>
        <p:blipFill>
          <a:blip r:embed="rId2"/>
          <a:srcRect l="-52817" t="0" r="-52817" b="0"/>
          <a:stretch/>
        </p:blipFill>
        <p:spPr>
          <a:xfrm>
            <a:off x="1905120" y="1609560"/>
            <a:ext cx="7238880" cy="48466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410760" y="2184480"/>
            <a:ext cx="31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trols all involuntar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tion, such as internal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rgans and glan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63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lps the body to operate under str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ght or fligh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ilates pupils, speeds heart rate, releases adrenaline, ec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784080" y="3511440"/>
            <a:ext cx="1063800" cy="124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3"/>
          <a:stretch/>
        </p:blipFill>
        <p:spPr>
          <a:xfrm>
            <a:off x="2925720" y="4200480"/>
            <a:ext cx="1757520" cy="1757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4"/>
          <a:stretch/>
        </p:blipFill>
        <p:spPr>
          <a:xfrm>
            <a:off x="5713560" y="3340080"/>
            <a:ext cx="15382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70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lms the body back down after str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upils contract, heartbeat slows, ec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1684440" y="2597040"/>
            <a:ext cx="4373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ill Heyma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079720"/>
            <a:ext cx="8078760" cy="15562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vous System: Diseases and Disorde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ff"/>
                </a:solidFill>
                <a:uFillTx/>
                <a:latin typeface="Trebuchet MS"/>
              </a:rPr>
              <a:t>Alzheimer’s Disease</a:t>
            </a: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 </a:t>
            </a:r>
            <a:br>
              <a:rPr sz="3800"/>
            </a:b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lowly progressiv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estroys neurons &amp; the brain’s communication path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ementias is the most common for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ral characteristic abnormal structures which cause malfunction or death to cell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3 stages- mild, moderate, seve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ff"/>
                </a:solidFill>
                <a:uFillTx/>
                <a:latin typeface="Trebuchet MS"/>
              </a:rPr>
              <a:t>Epilepsy</a:t>
            </a:r>
            <a:br>
              <a:rPr sz="3800"/>
            </a:b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ype with causes unknown- Idiopathi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ype with know causes (ex: head injury)- Symptomati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ype with causes suspected but not found- Crytogeni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uses seizures, affects memory, affects attention spa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Meds cause drowsiness, and mood &amp; behavior problems, but controls seizu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ff"/>
                </a:solidFill>
                <a:uFillTx/>
                <a:latin typeface="Trebuchet MS"/>
              </a:rPr>
              <a:t>Parkinson’s Diseas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Slowly progressive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Affects nerve cells (Basal Ganglia &amp; Substantia Nigra) which produce Dopamine (chemical messenger controlling body movements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Bradykinesia- slow movement, decreased blinking, drooling, lack of facial expression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Tremor-involuntary shaking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Rigidity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Postural Instability-  sense of imbalance, tendency to fall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ff"/>
                </a:solidFill>
                <a:uFillTx/>
                <a:latin typeface="Trebuchet MS"/>
              </a:rPr>
              <a:t>Multiple Sclerosis</a:t>
            </a:r>
            <a:br>
              <a:rPr sz="3800"/>
            </a:b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Occurs when damage to Myelin (fat protecting the spinal cord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emyelination-destruction which can occur anywhere in the central nervous syste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Affects walking, vis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auses memory loss, mood swings, learning proble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ffffff"/>
                </a:solidFill>
                <a:uFillTx/>
                <a:latin typeface="Trebuchet MS"/>
              </a:rPr>
              <a:t>Spina Bifida</a:t>
            </a:r>
            <a:br>
              <a:rPr sz="3800"/>
            </a:b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ost common neural tube birth defec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/1000 babies’ neural tubes don’t close properl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ost severe type- Myelomeningoce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ild/hidden type- Occult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Rarest type- Meningoce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ost serious type-Myelomeningocele or Op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urgery is sometimes need to prevent babies from dangerous infection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Prevention &amp; Treatment Tips for Alzheimer’s Diseas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Preven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*Currently there is no way to prevent this disea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reat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*Drugs to create emotion and better mind process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*Nursing homes for constant ca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119560" cy="29019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 Caroline Turne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nervoussystem.jpg" descr="/Users/Caroline/Desktop/nervoussystem.jpg"/>
          <p:cNvPicPr/>
          <p:nvPr/>
        </p:nvPicPr>
        <p:blipFill>
          <a:blip r:embed="rId3"/>
          <a:stretch/>
        </p:blipFill>
        <p:spPr>
          <a:xfrm>
            <a:off x="189000" y="1397160"/>
            <a:ext cx="243360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Prevention and Treatment Tips for Epilepsy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Preven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*Currently there is no way to prevent this disea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*Avoid situations in which head trauma could occ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reatm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*Medication to control seizur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* Changes in lifestyle and die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*Surgery- nerve stimul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Prevention &amp; Treatment Tips for Parkinson’s Diseas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reven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*Currently there is no way to prevent this diseas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reatmen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*Meds to replace dopamine in the brain, make a steady supply of levadopa in the blood, stop the destruction of dopamine, reduce acetylcholine activity, and block the excessive action of glutamat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*Surger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-Pallidotomy, Thalamotomy, Deep Brain Stimulatio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Prevention &amp; Treatment Tips for Multiple Sclerosis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Preven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*Currently there is no way to prevent this diseas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Treatmen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*Medication for severe symptom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*Assistanc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-devices- canes, walkers, wheel chairs and electric scooter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rebuchet MS"/>
              </a:rPr>
              <a:t>*Physical therap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Prevention &amp; Treatment Tips for Spina Bifida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64767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lvl="2" marL="720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Preven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*Take folic acid vitamins for a few months before getting pregnant &amp; during pregnanc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-folic acid= a B vitamin found in broccoli, spinach , orange juice, and certain pastas, breads &amp; cereal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Especially important during the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badi MT Condensed Extra Bold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 3 months of pregnancy, when neural tube is forming and clos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20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Treat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*Regular physical therap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1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Extra Bold"/>
              </a:rPr>
              <a:t>*Surgery to remove a sac poking out of the back through a hole, or out of a baby’s hea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611600" y="0"/>
            <a:ext cx="3519720" cy="3400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541840" y="3111480"/>
            <a:ext cx="2589480" cy="3746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3214800" y="3111480"/>
            <a:ext cx="2554200" cy="3746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803680" cy="31114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0" y="3111480"/>
            <a:ext cx="3214800" cy="3746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2803680" y="0"/>
            <a:ext cx="22111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Nervous system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sudden illness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emergency/first aid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ry Hidrej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oncussion 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concussion is a brain injury that may result in a bad headach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concussion results from a significant blow to the hea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ymptoms can range from mild to sever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Severed spinal cord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pinal cord injury occurs when the spinal cord is damaged in a way that results in some loss of sensation and motor contro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Who gets spinal cord injuries?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pproximately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"/>
          <p:cNvSpPr/>
          <p:nvPr/>
        </p:nvSpPr>
        <p:spPr>
          <a:xfrm>
            <a:off x="990720" y="2666520"/>
            <a:ext cx="71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000 people injure their spinal cord in the United States each year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/>
          <p:nvPr/>
        </p:nvSpPr>
        <p:spPr>
          <a:xfrm>
            <a:off x="844920" y="3885120"/>
            <a:ext cx="75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cord injuries can happen to anyone, at any 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Strok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symptoms of stroke depend on what part of the brain is damaged. In some cases, a person may not even be aware that he or she has had a strok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827000"/>
            <a:ext cx="8229600" cy="26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 establish communication throughout the bod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 initiate motion by sending signals throughout the body by means of neur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Help prevent a stroke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void fatty foods. Follow a healthy, low-fat die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 not drink more than 1 to 2 alcoholic drinks a da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ercise regularly: 30 minutes a day if you are not overweight; 60 - 90 minutes a day if you are overweigh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Stroke risks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igh blood pressure is the number one risk factor for strokes. The following also increase your risk for strok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Diabete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Family history of stroke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Heart disease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High cholesterol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Increasing age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ases of concussion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re are more than a million cases of concussion each year in the United States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concussion may result when the head hits an object or a moving object strikes the head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auses of Spinal Cord 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amage to the spinal cord is usually caused by one of five different types of injuries. Concussion of the spinal cord occurs when a sudden, violent jolt injures the tissues around the cord. This injury is usually temporary and goes away with in a few hour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Ischemic Strok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schemic stroke occurs when a blood vessel that supplies blood to the brain is blocked by a blood clot. This may happen in two way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A clot may form in an artery that is already very narrow. This is called a thrombus. If it completely blocks the artery, it is called a thrombotic strok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pic>
        <p:nvPicPr>
          <p:cNvPr id="227" name="neuron" descr="/Users/Caroline/Desktop/neuron"/>
          <p:cNvPicPr/>
          <p:nvPr/>
        </p:nvPicPr>
        <p:blipFill>
          <a:blip r:embed="rId2"/>
          <a:srcRect l="-24679" t="0" r="-24679" b="0"/>
          <a:stretch/>
        </p:blipFill>
        <p:spPr>
          <a:xfrm>
            <a:off x="457200" y="160956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pic>
        <p:nvPicPr>
          <p:cNvPr id="229" name="Content Placeholder 2" descr=""/>
          <p:cNvPicPr/>
          <p:nvPr/>
        </p:nvPicPr>
        <p:blipFill>
          <a:blip r:embed="rId2"/>
          <a:stretch/>
        </p:blipFill>
        <p:spPr>
          <a:xfrm>
            <a:off x="450720" y="1603440"/>
            <a:ext cx="7248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pic>
        <p:nvPicPr>
          <p:cNvPr id="231" name="Content Placeholder 3" descr=""/>
          <p:cNvPicPr/>
          <p:nvPr/>
        </p:nvPicPr>
        <p:blipFill>
          <a:blip r:embed="rId2"/>
          <a:stretch/>
        </p:blipFill>
        <p:spPr>
          <a:xfrm>
            <a:off x="407880" y="1603440"/>
            <a:ext cx="72979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pic>
        <p:nvPicPr>
          <p:cNvPr id="233" name="central nervous system" descr="/Users/Caroline/Desktop/central nervous system"/>
          <p:cNvPicPr/>
          <p:nvPr/>
        </p:nvPicPr>
        <p:blipFill>
          <a:blip r:embed="rId2"/>
          <a:srcRect l="-6107" t="0" r="-6107" b="0"/>
          <a:stretch/>
        </p:blipFill>
        <p:spPr>
          <a:xfrm>
            <a:off x="457200" y="1609560"/>
            <a:ext cx="7238880" cy="48466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912960" y="2028960"/>
            <a:ext cx="31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9b639"/>
                </a:solidFill>
                <a:latin typeface="Trebuchet MS"/>
              </a:rPr>
              <a:t>- Collects and interprets all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9b639"/>
                </a:solidFill>
                <a:latin typeface="Trebuchet MS"/>
              </a:rPr>
              <a:t>nerve impuls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884880" y="3147840"/>
            <a:ext cx="25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9b639"/>
                </a:solidFill>
                <a:latin typeface="Trebuchet MS"/>
              </a:rPr>
              <a:t>- Consists of the brai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9b639"/>
                </a:solidFill>
                <a:latin typeface="Trebuchet MS"/>
              </a:rPr>
              <a:t>and spinal cord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tains all the nerves not connected to the brain or spinal cor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nects these nerves to the Central Nervous Syste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 types: Somatic and Autonom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48600" cy="1157400"/>
          </a:xfrm>
          <a:prstGeom prst="rect">
            <a:avLst/>
          </a:prstGeom>
          <a:ln w="0">
            <a:noFill/>
          </a:ln>
        </p:spPr>
      </p:pic>
      <p:pic>
        <p:nvPicPr>
          <p:cNvPr id="239" name="somatic nervous system" descr="/Users/Caroline/Desktop/somatic nervous system"/>
          <p:cNvPicPr/>
          <p:nvPr/>
        </p:nvPicPr>
        <p:blipFill>
          <a:blip r:embed="rId2"/>
          <a:srcRect l="-85680" t="0" r="-85680" b="0"/>
          <a:stretch/>
        </p:blipFill>
        <p:spPr>
          <a:xfrm>
            <a:off x="2130480" y="1609560"/>
            <a:ext cx="7238880" cy="48466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"/>
          <p:cNvSpPr/>
          <p:nvPr/>
        </p:nvSpPr>
        <p:spPr>
          <a:xfrm>
            <a:off x="457200" y="1814400"/>
            <a:ext cx="39877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trols voluntary motion such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s the skeletal and muscul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3:00:47Z</dcterms:created>
  <dc:creator>Office 2004 Test Drive User</dc:creator>
  <dc:description/>
  <dc:language>en-US</dc:language>
  <cp:lastModifiedBy>heymanj</cp:lastModifiedBy>
  <dcterms:modified xsi:type="dcterms:W3CDTF">2010-03-17T16:46:06Z</dcterms:modified>
  <cp:revision>14</cp:revision>
  <dc:subject/>
  <dc:title>The Nervous System</dc:title>
</cp:coreProperties>
</file>